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837-018D-4E13-995D-00F71EC8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8C8-9634-407C-AC7F-277B7A7A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C840-7D13-491F-ACF4-820D854C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23D-317A-4B57-89F6-4D705855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FA0-29B9-460E-9820-B99FF2AA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DD56-7D2E-46CD-9FE0-7690C30C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C0C5-3116-4562-AE8F-3CC519EC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28D5-8914-4D81-97EB-9F854642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8B3-9147-4D7E-AA5B-0486C02E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217A-88B3-47FD-9036-AEE2C9CD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C61-D4E9-4CD8-8747-E8075C70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918-4A00-4112-A22C-DF76D711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2A6D-75BB-4367-8375-153B8289C1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685800" y="5334120"/>
            <a:ext cx="651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сказ березового листоч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1212275027_i-12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BetulaPendula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pic_2007-04-27_1000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c0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Хитры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40_SERVER</cp:lastModifiedBy>
  <dcterms:modified xsi:type="dcterms:W3CDTF">2012-03-17T06:19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